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9D63-550A-4998-B7A2-5452ECD78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P states a  desire to discuss relationship with D &amp; C st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ince these are draft stds, these will be address during the FTF ph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35F-C9EA-4B21-AAAD-A7F15CC9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F1B-48E0-4BCD-A367-E1A97F86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0225-4CB4-4682-954A-9F705C5D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AFD-35EE-451E-B549-0B78D150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70F9-896D-419D-A02C-88D3999E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DE62-AAE8-4D56-8490-676FD70D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DC04-BF1B-4A33-B60E-0DA700F3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23ED-9836-46CA-9544-BA60555C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4A71-0F69-4DED-951C-E73DD72C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96840"/>
            <a:ext cx="5867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6996-2CC8-4203-9D63-3D4D03A0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D30E-7499-448D-94B7-95A086F0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017-3FF3-4AC8-96A7-269BF7E9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6021-AC5D-4EF1-97EC-23340C83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6ECE-6E31-4514-9A24-5183490D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4F39-F63B-4EC0-B341-0A890DEE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42D3-9F9E-49E4-A64F-9E2B827B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A0C2-2F33-417C-BE9A-FDAA1F5B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C4C-279E-430A-BF9E-AF797CAF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0FF-FE48-459C-9B18-2A30E462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9CE-31B8-4A07-8F43-FA96CE67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00200" y="96840"/>
            <a:ext cx="5867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F86-8F53-4B39-B39D-5EB5F8EE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101-272A-4075-9ADC-24D6399C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466-04FC-40C8-8258-E33C4313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E35-A001-4CAB-9B24-40D10E66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G Technical Meeting, Boston, September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196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BBCAEBF-4070-4475-BA12-0E212335DDB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816768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304920" y="0"/>
            <a:ext cx="94284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ftware</a:t>
            </a:r>
            <a:endParaRPr b="0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dio</a:t>
            </a:r>
            <a:endParaRPr b="0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" name="mda_small" descr=""/>
          <p:cNvPicPr/>
          <p:nvPr/>
        </p:nvPicPr>
        <p:blipFill>
          <a:blip r:embed="rId2"/>
          <a:stretch/>
        </p:blipFill>
        <p:spPr>
          <a:xfrm>
            <a:off x="8153280" y="15228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24080" y="16761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5C6DC36-D85A-4496-A795-8242CF9B044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2280"/>
            <a:ext cx="1600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ftware</a:t>
            </a:r>
            <a:endParaRPr b="0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dio</a:t>
            </a:r>
            <a:endParaRPr b="0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1143000"/>
            <a:ext cx="656748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mg_new" descr=""/>
          <p:cNvPicPr/>
          <p:nvPr/>
        </p:nvPicPr>
        <p:blipFill>
          <a:blip r:embed="rId2"/>
          <a:stretch/>
        </p:blipFill>
        <p:spPr>
          <a:xfrm>
            <a:off x="6858000" y="152280"/>
            <a:ext cx="1981080" cy="781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sed Submiss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M and PSM for SWRADIO Components SWRADIO/02-06-02 R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7000" y="3809880"/>
            <a:ext cx="33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80"/>
                </a:solidFill>
                <a:uFillTx/>
                <a:latin typeface="Times New Roman"/>
              </a:rPr>
              <a:t>Jerry Bick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Raythe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+1-260-429-62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Gerald_L_Bickle@Raytheon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5560" y="5105520"/>
            <a:ext cx="40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80"/>
                </a:solidFill>
                <a:uFillTx/>
                <a:latin typeface="Times New Roman"/>
                <a:ea typeface="Times New Roman"/>
              </a:rPr>
              <a:t>Francois-Xavier LEBAS</a:t>
            </a:r>
            <a:r>
              <a:rPr b="0" lang="en-US" sz="1800" spc="-1" strike="noStrike" u="sng">
                <a:solidFill>
                  <a:srgbClr val="80808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THALES Communications France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+33.(0)1.41.30.24.20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francois-xavier.lebas@fr.thalesgroup.com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809880"/>
            <a:ext cx="27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80"/>
                </a:solidFill>
                <a:uFillTx/>
                <a:latin typeface="Times New Roman"/>
              </a:rPr>
              <a:t>Dr. Jeffrey Sm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Mercury Computer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+1-978-256-00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jesmith@m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31720" y="5181480"/>
            <a:ext cx="38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80"/>
                </a:solidFill>
                <a:uFillTx/>
                <a:latin typeface="Times New Roman"/>
              </a:rPr>
              <a:t>Software Radio Submission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Email: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rsupport@yahoogroup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A39F-BB02-4928-9F35-14E043C0F8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al De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715968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ED06-C5CA-49DE-9BD5-588CBB4B2A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Profile for Communication Equi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Equipment Property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111-B768-4E04-A675-B60E9352E8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Equipment Property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133720" y="1214280"/>
            <a:ext cx="5549760" cy="549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76F-1E2F-4218-A70D-3C20BF555C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Equipment Port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-152280" y="1295280"/>
            <a:ext cx="9491400" cy="463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AB7-AFE3-4C95-8AFC-C008EEFDF1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Equi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5429160" cy="54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9FD-6F21-488A-8F0D-C01DB0CCCA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F De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238880" cy="539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D7A-85A3-45D9-A4D5-E5B7CD6766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701028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972-0225-4C5F-B933-BD106EB551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plifi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934320" cy="54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98D4-A2AC-4AFE-AE1D-5E4D43CEBE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321680" cy="553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D21-328B-4BDA-B59E-A716DBE448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 Conver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752480" y="1074600"/>
            <a:ext cx="5688000" cy="578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BFC-CA3F-4964-AA59-5A0370529A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RADIO UML Profile and Facilities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L Profile for SW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E52-6909-467D-8E2C-B043EF85AF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Profile for SWRADIO - Infra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E7B-2B25-4FD5-BE22-F6BB7D178E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Chan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915400" cy="535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9FA8-B41C-43D9-9566-8B0A4F981C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o S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732440" cy="220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CE2-C994-4B18-BC57-113BB90EBE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o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186760" cy="501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438-7293-4609-9642-DA6BE72D2B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verall Go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 of UML Profile for SW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 of a PIM for SW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 of a PSM for SW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pdated Revised Submission planned for Nove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pdated  and Vote for Revised Submission for Jan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edback is apprec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27E-0F3F-4D56-88A8-A6E7B59C10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ory Submission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L Profile for SW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RADI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RADIO Facilities P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O (Audio, Se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/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port (MAC, Data L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RADIO P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ies P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X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547-6108-43E3-9624-5A3289A71D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, cont’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Submission Items (as time perm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RADIO Facilities P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RADIO PSM for Optional PIM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with OM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weight Log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weight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weight C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 &amp;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EBE-330E-45D7-950C-686A9AF0CC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RADIO UML Profile and Facilities Map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458200" cy="56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B9C-BB09-46F6-8A3D-4E2104EC70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RADIO UML Profile and Facilities Mapping, cont’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800" y="1839960"/>
            <a:ext cx="1125360" cy="563400"/>
          </a:xfrm>
          <a:prstGeom prst="rect">
            <a:avLst/>
          </a:prstGeom>
          <a:solidFill>
            <a:srgbClr val="00ff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50120" y="2023920"/>
            <a:ext cx="6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F_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6800" y="2198520"/>
            <a:ext cx="1125360" cy="204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6800" y="2276640"/>
            <a:ext cx="1125360" cy="126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0520" y="1868400"/>
            <a:ext cx="88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&lt;stereotype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71720" y="3159000"/>
            <a:ext cx="998640" cy="398520"/>
          </a:xfrm>
          <a:prstGeom prst="rect">
            <a:avLst/>
          </a:prstGeom>
          <a:solidFill>
            <a:srgbClr val="ff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26160" y="3198960"/>
            <a:ext cx="72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71720" y="3363840"/>
            <a:ext cx="998640" cy="193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71720" y="3440160"/>
            <a:ext cx="998640" cy="117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56440" y="5264280"/>
            <a:ext cx="1163520" cy="55404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56440" y="5089680"/>
            <a:ext cx="466560" cy="17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56440" y="5089680"/>
            <a:ext cx="466560" cy="174600"/>
          </a:xfrm>
          <a:custGeom>
            <a:avLst/>
            <a:gdLst/>
            <a:ahLst/>
            <a:rect l="l" t="t" r="r" b="b"/>
            <a:pathLst>
              <a:path w="48" h="18">
                <a:moveTo>
                  <a:pt x="0" y="18"/>
                </a:moveTo>
                <a:lnTo>
                  <a:pt x="0" y="0"/>
                </a:lnTo>
                <a:lnTo>
                  <a:pt x="48" y="0"/>
                </a:lnTo>
                <a:lnTo>
                  <a:pt x="48" y="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32120" y="5284800"/>
            <a:ext cx="88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Transp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1840" y="543888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04680" y="5613480"/>
            <a:ext cx="112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rom Facilities PI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50080" y="5157720"/>
            <a:ext cx="1163880" cy="56376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50080" y="4992840"/>
            <a:ext cx="466920" cy="164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50080" y="4992840"/>
            <a:ext cx="466920" cy="164880"/>
          </a:xfrm>
          <a:custGeom>
            <a:avLst/>
            <a:gdLst/>
            <a:ahLst/>
            <a:rect l="l" t="t" r="r" b="b"/>
            <a:pathLst>
              <a:path w="48" h="17">
                <a:moveTo>
                  <a:pt x="0" y="17"/>
                </a:moveTo>
                <a:lnTo>
                  <a:pt x="0" y="0"/>
                </a:lnTo>
                <a:lnTo>
                  <a:pt x="48" y="0"/>
                </a:lnTo>
                <a:lnTo>
                  <a:pt x="48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09640" y="5176800"/>
            <a:ext cx="69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/O Fac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98320" y="5362560"/>
            <a:ext cx="112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rom Facilities PI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92160" y="5313240"/>
            <a:ext cx="1163880" cy="552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92160" y="5148360"/>
            <a:ext cx="465120" cy="164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92160" y="5148360"/>
            <a:ext cx="465120" cy="164880"/>
          </a:xfrm>
          <a:custGeom>
            <a:avLst/>
            <a:gdLst/>
            <a:ahLst/>
            <a:rect l="l" t="t" r="r" b="b"/>
            <a:pathLst>
              <a:path w="48" h="17">
                <a:moveTo>
                  <a:pt x="0" y="17"/>
                </a:moveTo>
                <a:lnTo>
                  <a:pt x="0" y="0"/>
                </a:lnTo>
                <a:lnTo>
                  <a:pt x="48" y="0"/>
                </a:lnTo>
                <a:lnTo>
                  <a:pt x="48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25000" y="5332320"/>
            <a:ext cx="94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m Fac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40760" y="5506920"/>
            <a:ext cx="112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rom Facilities PI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69000" y="5313240"/>
            <a:ext cx="1164960" cy="552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69000" y="5148360"/>
            <a:ext cx="466560" cy="164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69000" y="5148360"/>
            <a:ext cx="466560" cy="164880"/>
          </a:xfrm>
          <a:custGeom>
            <a:avLst/>
            <a:gdLst/>
            <a:ahLst/>
            <a:rect l="l" t="t" r="r" b="b"/>
            <a:pathLst>
              <a:path w="48" h="17">
                <a:moveTo>
                  <a:pt x="0" y="17"/>
                </a:moveTo>
                <a:lnTo>
                  <a:pt x="0" y="0"/>
                </a:lnTo>
                <a:lnTo>
                  <a:pt x="48" y="0"/>
                </a:lnTo>
                <a:lnTo>
                  <a:pt x="48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45840" y="533232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34400" y="548784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18680" y="5662440"/>
            <a:ext cx="112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rom Facilities PI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60" y="5313240"/>
            <a:ext cx="1173240" cy="552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360" y="5148360"/>
            <a:ext cx="465120" cy="164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360" y="5148360"/>
            <a:ext cx="465120" cy="164880"/>
          </a:xfrm>
          <a:custGeom>
            <a:avLst/>
            <a:gdLst/>
            <a:ahLst/>
            <a:rect l="l" t="t" r="r" b="b"/>
            <a:pathLst>
              <a:path w="48" h="17">
                <a:moveTo>
                  <a:pt x="0" y="17"/>
                </a:moveTo>
                <a:lnTo>
                  <a:pt x="0" y="0"/>
                </a:lnTo>
                <a:lnTo>
                  <a:pt x="48" y="0"/>
                </a:lnTo>
                <a:lnTo>
                  <a:pt x="48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280" y="5332320"/>
            <a:ext cx="84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F/IF Fac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2960" y="5506920"/>
            <a:ext cx="112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rom Facilities PI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83000" y="5313240"/>
            <a:ext cx="1163520" cy="552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3000" y="5148360"/>
            <a:ext cx="455760" cy="164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83000" y="5148360"/>
            <a:ext cx="455760" cy="164880"/>
          </a:xfrm>
          <a:custGeom>
            <a:avLst/>
            <a:gdLst/>
            <a:ahLst/>
            <a:rect l="l" t="t" r="r" b="b"/>
            <a:pathLst>
              <a:path w="47" h="17">
                <a:moveTo>
                  <a:pt x="0" y="17"/>
                </a:moveTo>
                <a:lnTo>
                  <a:pt x="0" y="0"/>
                </a:lnTo>
                <a:lnTo>
                  <a:pt x="47" y="0"/>
                </a:lnTo>
                <a:lnTo>
                  <a:pt x="47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02160" y="5332320"/>
            <a:ext cx="98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ity Fac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31240" y="5506920"/>
            <a:ext cx="112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rom Facilities PI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00880" y="3906720"/>
            <a:ext cx="1552680" cy="397080"/>
          </a:xfrm>
          <a:prstGeom prst="rect">
            <a:avLst/>
          </a:prstGeom>
          <a:solidFill>
            <a:srgbClr val="ff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96000" y="3944880"/>
            <a:ext cx="119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form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00880" y="4110120"/>
            <a:ext cx="1552680" cy="193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00880" y="4187880"/>
            <a:ext cx="1552680" cy="115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06840" y="2316240"/>
            <a:ext cx="1319040" cy="396720"/>
          </a:xfrm>
          <a:prstGeom prst="rect">
            <a:avLst/>
          </a:prstGeom>
          <a:solidFill>
            <a:srgbClr val="00ff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82880" y="2354400"/>
            <a:ext cx="97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mmEqui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6840" y="2529000"/>
            <a:ext cx="1319040" cy="183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06840" y="2606760"/>
            <a:ext cx="1319040" cy="106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92160" y="2228760"/>
            <a:ext cx="804960" cy="15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2000" y="2276640"/>
            <a:ext cx="195120" cy="136440"/>
          </a:xfrm>
          <a:custGeom>
            <a:avLst/>
            <a:gdLst/>
            <a:ahLst/>
            <a:rect l="l" t="t" r="r" b="b"/>
            <a:pathLst>
              <a:path w="123" h="86">
                <a:moveTo>
                  <a:pt x="123" y="67"/>
                </a:moveTo>
                <a:lnTo>
                  <a:pt x="19" y="0"/>
                </a:lnTo>
                <a:lnTo>
                  <a:pt x="0" y="86"/>
                </a:lnTo>
                <a:lnTo>
                  <a:pt x="123" y="6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65640" y="2936880"/>
            <a:ext cx="1440" cy="222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9080" y="3014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365640" y="2712960"/>
            <a:ext cx="1440" cy="22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29080" y="2752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0080" y="2994120"/>
            <a:ext cx="77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device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29080" y="3014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19480" y="2684520"/>
            <a:ext cx="1020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commEqui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9080" y="2752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6680" y="2644920"/>
            <a:ext cx="1280880" cy="514080"/>
          </a:xfrm>
          <a:custGeom>
            <a:avLst/>
            <a:gdLst/>
            <a:ahLst/>
            <a:rect l="l" t="t" r="r" b="b"/>
            <a:pathLst>
              <a:path w="807" h="324">
                <a:moveTo>
                  <a:pt x="0" y="0"/>
                </a:moveTo>
                <a:lnTo>
                  <a:pt x="733" y="0"/>
                </a:lnTo>
                <a:lnTo>
                  <a:pt x="807" y="68"/>
                </a:lnTo>
                <a:lnTo>
                  <a:pt x="807" y="324"/>
                </a:lnTo>
                <a:lnTo>
                  <a:pt x="0" y="324"/>
                </a:lnTo>
                <a:lnTo>
                  <a:pt x="0" y="0"/>
                </a:lnTo>
                <a:close/>
              </a:path>
            </a:pathLst>
          </a:custGeom>
          <a:solidFill>
            <a:srgbClr val="00ff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6680" y="2644920"/>
            <a:ext cx="1280880" cy="514080"/>
          </a:xfrm>
          <a:custGeom>
            <a:avLst/>
            <a:gdLst/>
            <a:ahLst/>
            <a:rect l="l" t="t" r="r" b="b"/>
            <a:pathLst>
              <a:path w="132" h="53">
                <a:moveTo>
                  <a:pt x="0" y="0"/>
                </a:moveTo>
                <a:lnTo>
                  <a:pt x="120" y="0"/>
                </a:lnTo>
                <a:lnTo>
                  <a:pt x="132" y="11"/>
                </a:lnTo>
                <a:lnTo>
                  <a:pt x="132" y="53"/>
                </a:lnTo>
                <a:lnTo>
                  <a:pt x="0" y="5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2644920"/>
            <a:ext cx="117360" cy="10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0" y="0"/>
                </a:moveTo>
                <a:lnTo>
                  <a:pt x="0" y="11"/>
                </a:lnTo>
                <a:lnTo>
                  <a:pt x="12" y="1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6440" y="2665440"/>
            <a:ext cx="87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ML Profile f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7000" y="2819520"/>
            <a:ext cx="112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RADIO - Com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3640" y="2975040"/>
            <a:ext cx="60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2480" y="3683160"/>
            <a:ext cx="1279800" cy="523800"/>
          </a:xfrm>
          <a:custGeom>
            <a:avLst/>
            <a:gdLst/>
            <a:ahLst/>
            <a:rect l="l" t="t" r="r" b="b"/>
            <a:pathLst>
              <a:path w="806" h="330">
                <a:moveTo>
                  <a:pt x="0" y="0"/>
                </a:moveTo>
                <a:lnTo>
                  <a:pt x="733" y="0"/>
                </a:lnTo>
                <a:lnTo>
                  <a:pt x="806" y="74"/>
                </a:lnTo>
                <a:lnTo>
                  <a:pt x="806" y="330"/>
                </a:lnTo>
                <a:lnTo>
                  <a:pt x="0" y="330"/>
                </a:lnTo>
                <a:lnTo>
                  <a:pt x="0" y="0"/>
                </a:lnTo>
                <a:close/>
              </a:path>
            </a:pathLst>
          </a:custGeom>
          <a:solidFill>
            <a:srgbClr val="ff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2480" y="3683160"/>
            <a:ext cx="1279800" cy="523800"/>
          </a:xfrm>
          <a:custGeom>
            <a:avLst/>
            <a:gdLst/>
            <a:ahLst/>
            <a:rect l="l" t="t" r="r" b="b"/>
            <a:pathLst>
              <a:path w="132" h="54">
                <a:moveTo>
                  <a:pt x="0" y="0"/>
                </a:moveTo>
                <a:lnTo>
                  <a:pt x="120" y="0"/>
                </a:lnTo>
                <a:lnTo>
                  <a:pt x="132" y="12"/>
                </a:lnTo>
                <a:lnTo>
                  <a:pt x="132" y="54"/>
                </a:lnTo>
                <a:lnTo>
                  <a:pt x="0" y="5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46360" y="3683160"/>
            <a:ext cx="115920" cy="11736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0" y="12"/>
                </a:lnTo>
                <a:lnTo>
                  <a:pt x="12" y="1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2600" y="3703680"/>
            <a:ext cx="87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ML Profile f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0160" y="385776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RADIO -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5480" y="401328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163520" y="2403360"/>
            <a:ext cx="77760" cy="2318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27280" y="2625480"/>
            <a:ext cx="969840" cy="1746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881360" y="3498840"/>
            <a:ext cx="981000" cy="27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22400" y="3906720"/>
            <a:ext cx="1087560" cy="397080"/>
          </a:xfrm>
          <a:prstGeom prst="rect">
            <a:avLst/>
          </a:prstGeom>
          <a:solidFill>
            <a:srgbClr val="ff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8280" y="394488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ical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22400" y="4110120"/>
            <a:ext cx="1087560" cy="193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22400" y="4187880"/>
            <a:ext cx="1087560" cy="115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65640" y="3732120"/>
            <a:ext cx="1440" cy="16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7760" y="3732120"/>
            <a:ext cx="96840" cy="165240"/>
          </a:xfrm>
          <a:custGeom>
            <a:avLst/>
            <a:gdLst/>
            <a:ahLst/>
            <a:rect l="l" t="t" r="r" b="b"/>
            <a:pathLst>
              <a:path w="61" h="104">
                <a:moveTo>
                  <a:pt x="30" y="104"/>
                </a:moveTo>
                <a:lnTo>
                  <a:pt x="61" y="55"/>
                </a:lnTo>
                <a:lnTo>
                  <a:pt x="30" y="0"/>
                </a:lnTo>
                <a:lnTo>
                  <a:pt x="0" y="55"/>
                </a:lnTo>
                <a:lnTo>
                  <a:pt x="30" y="10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365640" y="3557160"/>
            <a:ext cx="1440" cy="17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14320" y="35956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14320" y="35956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668600" y="4303800"/>
            <a:ext cx="1387440" cy="90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668600" y="5187600"/>
            <a:ext cx="1159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668600" y="5100480"/>
            <a:ext cx="68040" cy="106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735280" y="4303800"/>
            <a:ext cx="504720" cy="8348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35280" y="5070240"/>
            <a:ext cx="968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735280" y="5022720"/>
            <a:ext cx="1908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52760" y="4303800"/>
            <a:ext cx="398520" cy="8348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51280" y="50227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763440" y="5060880"/>
            <a:ext cx="8748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09960" y="4246560"/>
            <a:ext cx="3830760" cy="1038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7643520" y="5207040"/>
            <a:ext cx="9684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624800" y="5284800"/>
            <a:ext cx="11592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81360" y="3994200"/>
            <a:ext cx="941040" cy="680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18080" y="3906720"/>
            <a:ext cx="1560600" cy="397080"/>
          </a:xfrm>
          <a:prstGeom prst="rect">
            <a:avLst/>
          </a:prstGeom>
          <a:solidFill>
            <a:srgbClr val="ff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11040" y="3944880"/>
            <a:ext cx="1195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ource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18080" y="4110120"/>
            <a:ext cx="1560600" cy="193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8080" y="4187880"/>
            <a:ext cx="1560600" cy="115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89600" y="4100400"/>
            <a:ext cx="611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4052880"/>
            <a:ext cx="164880" cy="96840"/>
          </a:xfrm>
          <a:custGeom>
            <a:avLst/>
            <a:gdLst/>
            <a:ahLst/>
            <a:rect l="l" t="t" r="r" b="b"/>
            <a:pathLst>
              <a:path w="104" h="61">
                <a:moveTo>
                  <a:pt x="104" y="30"/>
                </a:moveTo>
                <a:lnTo>
                  <a:pt x="49" y="61"/>
                </a:lnTo>
                <a:lnTo>
                  <a:pt x="0" y="30"/>
                </a:lnTo>
                <a:lnTo>
                  <a:pt x="49" y="0"/>
                </a:lnTo>
                <a:lnTo>
                  <a:pt x="104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178320" y="4100400"/>
            <a:ext cx="610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30520" y="414972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59240" y="3897360"/>
            <a:ext cx="122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resource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30520" y="414972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64240" y="3102120"/>
            <a:ext cx="2232000" cy="795240"/>
          </a:xfrm>
          <a:custGeom>
            <a:avLst/>
            <a:gdLst/>
            <a:ahLst/>
            <a:rect l="l" t="t" r="r" b="b"/>
            <a:pathLst>
              <a:path w="230" h="82">
                <a:moveTo>
                  <a:pt x="230" y="82"/>
                </a:moveTo>
                <a:lnTo>
                  <a:pt x="111" y="0"/>
                </a:lnTo>
                <a:lnTo>
                  <a:pt x="0" y="8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64240" y="3732120"/>
            <a:ext cx="185760" cy="165240"/>
          </a:xfrm>
          <a:custGeom>
            <a:avLst/>
            <a:gdLst/>
            <a:ahLst/>
            <a:rect l="l" t="t" r="r" b="b"/>
            <a:pathLst>
              <a:path w="117" h="104">
                <a:moveTo>
                  <a:pt x="0" y="104"/>
                </a:moveTo>
                <a:lnTo>
                  <a:pt x="117" y="73"/>
                </a:lnTo>
                <a:lnTo>
                  <a:pt x="6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97640" y="4303800"/>
            <a:ext cx="795240" cy="78588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6343200" y="4983120"/>
            <a:ext cx="49320" cy="106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6275520" y="5051520"/>
            <a:ext cx="11736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03960" y="4303800"/>
            <a:ext cx="28440" cy="8348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432400" y="5032080"/>
            <a:ext cx="47520" cy="10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382720" y="5032080"/>
            <a:ext cx="49320" cy="10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462200" y="4303800"/>
            <a:ext cx="755640" cy="8348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462560" y="5089680"/>
            <a:ext cx="106200" cy="4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462560" y="5022720"/>
            <a:ext cx="3816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055680" y="4303800"/>
            <a:ext cx="1949400" cy="99036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056040" y="5284800"/>
            <a:ext cx="11592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056040" y="5196960"/>
            <a:ext cx="77760" cy="9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7720" y="4100400"/>
            <a:ext cx="36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8120" y="4149720"/>
            <a:ext cx="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909960" y="4100400"/>
            <a:ext cx="34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95640" y="4149720"/>
            <a:ext cx="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8120" y="4149720"/>
            <a:ext cx="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95640" y="4149720"/>
            <a:ext cx="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61C-569B-4785-B123-D694ABE664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Profile for SWRADIO -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RADIO Componen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684-55E3-4D72-808C-6188577D8F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RADIO Component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327640" cy="53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2E8-A28F-4524-BE3B-8151BAB7AF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RADIO Waveform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8044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94C-66DA-46B1-AE42-975DC3003C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8T03:14:17Z</dcterms:created>
  <dc:creator>pae</dc:creator>
  <dc:description/>
  <dc:language>en-US</dc:language>
  <cp:lastModifiedBy>Gerald Lee Bickle</cp:lastModifiedBy>
  <cp:lastPrinted>2001-04-17T19:56:05Z</cp:lastPrinted>
  <dcterms:modified xsi:type="dcterms:W3CDTF">2003-09-08T15:21:18Z</dcterms:modified>
  <cp:revision>177</cp:revision>
  <dc:subject/>
  <dc:title>SCA Q&amp;A Forum</dc:title>
</cp:coreProperties>
</file>